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088-7254-4A42-836A-79E6FE15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2C0-E60F-4FCA-98D1-16BE19A3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A93-F80C-4362-9E9F-E21E0DE8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628-1892-44CC-A2C3-13808493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C3B-A9C9-4E4D-80B7-1916596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D8C-8425-4231-A403-E190783A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468-8FFA-4AFA-8EA4-B3CD7296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13A-5BCF-4519-BD57-1C045AA9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6CB-65CD-4C42-8087-A5652E59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482-A76E-465A-8DC4-FF426EE2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46C-AE2C-408B-9FA2-E0E7A06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21C-1A99-4E26-BAC5-2BAD7E26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65A8-EF43-4688-B26D-78CF00D5E687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on sport préféré es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 je le pratique (ludique ou compétitif) et à quel endroit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ourquoi j’aime ce spor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03:49Z</dcterms:created>
  <dc:creator>Generic</dc:creator>
  <dc:description/>
  <dc:language>en-US</dc:language>
  <cp:lastModifiedBy>STI</cp:lastModifiedBy>
  <dcterms:modified xsi:type="dcterms:W3CDTF">2007-11-20T19:03:18Z</dcterms:modified>
  <cp:revision>6</cp:revision>
  <dc:subject/>
  <dc:title>Nom:</dc:title>
</cp:coreProperties>
</file>